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A771-1A2E-4AA3-8ADB-6FDB81FE5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FA22-B747-46D8-94BA-8063BB524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76E6-9D2F-4DF6-B601-9905D3FB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A11B-A0EE-4B2D-AFCD-253D3DF2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044F-3CFB-4628-B4A0-B56263E7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134C-39F7-4AB2-A069-C7A85740E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055E-437B-468D-A9EC-A356AEC1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4093-F3DA-42A0-9D23-3060E7C3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C5EF-2CC5-4B22-AF6E-E38D3CEF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3E9F-F06F-439C-9D38-5A75931B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0760-1CCE-4D8A-800A-B01A12B0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4E09-A4A8-4B43-B356-8497125B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8F45-CE11-4CC5-84FE-1C4E44CC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2EC1-8818-45FC-8469-7D230584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BC63-47CD-4AD3-853F-72C5842FF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eram Awada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80880" y="2438280"/>
            <a:ext cx="121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eram (24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380880" y="2666880"/>
            <a:ext cx="121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er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457200" y="289548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eram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62000" y="53722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181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isba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7"/>
          <p:cNvSpPr/>
          <p:nvPr/>
        </p:nvSpPr>
        <p:spPr>
          <a:xfrm>
            <a:off x="76320" y="3618000"/>
            <a:ext cx="1676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Meram. Yo vivo en New York City. Tengo 14 años. Tengo uno hermano. Soy es joven, graciosa y activa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2"/>
          <p:cNvSpPr/>
          <p:nvPr/>
        </p:nvSpPr>
        <p:spPr>
          <a:xfrm>
            <a:off x="64764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4"/>
          <p:cNvSpPr/>
          <p:nvPr/>
        </p:nvSpPr>
        <p:spPr>
          <a:xfrm>
            <a:off x="236520" y="60991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6"/>
          <p:cNvSpPr/>
          <p:nvPr/>
        </p:nvSpPr>
        <p:spPr>
          <a:xfrm flipH="1">
            <a:off x="1249200" y="51307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b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7"/>
          <p:cNvSpPr/>
          <p:nvPr/>
        </p:nvSpPr>
        <p:spPr>
          <a:xfrm>
            <a:off x="2743200" y="38862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Lib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Hola! </a:t>
            </a:r>
            <a:r>
              <a:rPr b="0" lang="es-ES" sz="900" spc="-1" strike="noStrike">
                <a:solidFill>
                  <a:srgbClr val="343434"/>
                </a:solidFill>
                <a:latin typeface="Arial"/>
              </a:rPr>
              <a:t>¿L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o que está arrib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52560" y="3200400"/>
            <a:ext cx="38768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Manisha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343434"/>
                </a:solidFill>
                <a:latin typeface="Arial"/>
              </a:rPr>
              <a:t>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343434"/>
                </a:solidFill>
                <a:latin typeface="Arial"/>
              </a:rPr>
              <a:t>Buenas tardes. ¿Quieres hacer soemthing este fin de semana?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Misba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amiga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7880" y="449568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s mi amora!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Hablar conmigo por la maña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5137200"/>
            <a:ext cx="389088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Apr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engo que decirte algo a decir a te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5781600"/>
            <a:ext cx="39020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Albana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días! ¿Quieres ir a patinar sobre hielo ho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6"/>
          <p:cNvSpPr/>
          <p:nvPr/>
        </p:nvSpPr>
        <p:spPr>
          <a:xfrm>
            <a:off x="1981080" y="1905120"/>
            <a:ext cx="198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2"/>
          <p:cNvSpPr/>
          <p:nvPr/>
        </p:nvSpPr>
        <p:spPr>
          <a:xfrm>
            <a:off x="703440" y="6095880"/>
            <a:ext cx="49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photo-1.jpeg"/>
          <p:cNvPicPr/>
          <p:nvPr/>
        </p:nvPicPr>
        <p:blipFill>
          <a:blip r:embed="rId1"/>
          <a:stretch/>
        </p:blipFill>
        <p:spPr>
          <a:xfrm>
            <a:off x="712800" y="4660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photo.jpeg"/>
          <p:cNvPicPr/>
          <p:nvPr/>
        </p:nvPicPr>
        <p:blipFill>
          <a:blip r:embed="rId2"/>
          <a:stretch/>
        </p:blipFill>
        <p:spPr>
          <a:xfrm>
            <a:off x="203040" y="4657680"/>
            <a:ext cx="422280" cy="46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8" descr=""/>
          <p:cNvPicPr/>
          <p:nvPr/>
        </p:nvPicPr>
        <p:blipFill>
          <a:blip r:embed="rId3"/>
          <a:stretch/>
        </p:blipFill>
        <p:spPr>
          <a:xfrm>
            <a:off x="2106720" y="2514600"/>
            <a:ext cx="512640" cy="528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0" descr="C:\Users\Unicorns are Cool\Downloads\behappy_dontworry on Instagram_files\profile_33995694_75sq_1352944363.jpg"/>
          <p:cNvPicPr/>
          <p:nvPr/>
        </p:nvPicPr>
        <p:blipFill>
          <a:blip r:embed="rId4"/>
          <a:stretch/>
        </p:blipFill>
        <p:spPr>
          <a:xfrm>
            <a:off x="468360" y="1432080"/>
            <a:ext cx="981000" cy="981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1" descr=""/>
          <p:cNvPicPr/>
          <p:nvPr/>
        </p:nvPicPr>
        <p:blipFill>
          <a:blip r:embed="rId5"/>
          <a:stretch/>
        </p:blipFill>
        <p:spPr>
          <a:xfrm>
            <a:off x="2133720" y="3200400"/>
            <a:ext cx="485640" cy="485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3" descr="C:\Users\Unicorns are Cool\Downloads\apessssss_ on Instagram_files\c2ca73f2359311e29b2522000a9f13d5_7.jpg"/>
          <p:cNvPicPr/>
          <p:nvPr/>
        </p:nvPicPr>
        <p:blipFill>
          <a:blip r:embed="rId6"/>
          <a:stretch/>
        </p:blipFill>
        <p:spPr>
          <a:xfrm>
            <a:off x="203040" y="5486400"/>
            <a:ext cx="476280" cy="58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4" descr="C:\Users\Unicorns are Cool\Downloads\_mermaidinspired on Instagram_files\profile_17452405_75sq_1354473962.jpg"/>
          <p:cNvPicPr/>
          <p:nvPr/>
        </p:nvPicPr>
        <p:blipFill>
          <a:blip r:embed="rId7"/>
          <a:stretch/>
        </p:blipFill>
        <p:spPr>
          <a:xfrm>
            <a:off x="1249200" y="4657680"/>
            <a:ext cx="462240" cy="447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5" descr=""/>
          <p:cNvPicPr/>
          <p:nvPr/>
        </p:nvPicPr>
        <p:blipFill>
          <a:blip r:embed="rId8"/>
          <a:stretch/>
        </p:blipFill>
        <p:spPr>
          <a:xfrm>
            <a:off x="2133720" y="3886200"/>
            <a:ext cx="463320" cy="450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7" descr=""/>
          <p:cNvPicPr/>
          <p:nvPr/>
        </p:nvPicPr>
        <p:blipFill>
          <a:blip r:embed="rId9"/>
          <a:stretch/>
        </p:blipFill>
        <p:spPr>
          <a:xfrm>
            <a:off x="2138400" y="5130720"/>
            <a:ext cx="480960" cy="513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8" descr="C:\Users\Unicorns are Cool\Downloads\xobanaaxo on Instagram_files\640e37a8286511e2a76e22000a9f1968_7.jpg"/>
          <p:cNvPicPr/>
          <p:nvPr/>
        </p:nvPicPr>
        <p:blipFill>
          <a:blip r:embed="rId10"/>
          <a:stretch/>
        </p:blipFill>
        <p:spPr>
          <a:xfrm>
            <a:off x="762120" y="5486400"/>
            <a:ext cx="371520" cy="593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9" descr=""/>
          <p:cNvPicPr/>
          <p:nvPr/>
        </p:nvPicPr>
        <p:blipFill>
          <a:blip r:embed="rId11"/>
          <a:stretch/>
        </p:blipFill>
        <p:spPr>
          <a:xfrm>
            <a:off x="2217600" y="5722920"/>
            <a:ext cx="37152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nicorns are Cool</cp:lastModifiedBy>
  <dcterms:modified xsi:type="dcterms:W3CDTF">2012-12-06T02:22:50Z</dcterms:modified>
  <cp:revision>110</cp:revision>
  <dc:subject/>
  <dc:title>Profile</dc:title>
</cp:coreProperties>
</file>